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6.wmf" ContentType="image/x-wmf"/>
  <Override PartName="/ppt/media/image8.png" ContentType="image/png"/>
  <Override PartName="/ppt/media/image9.png" ContentType="image/png"/>
  <Override PartName="/ppt/media/image3.png" ContentType="image/png"/>
  <Override PartName="/ppt/media/image11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0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20.wmf" ContentType="image/x-wmf"/>
  <Override PartName="/ppt/media/image2.wmf" ContentType="image/x-wmf"/>
  <Override PartName="/ppt/media/chimes.wav" ContentType="audio/x-wav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Custom Show 1" id="0">
      <p:sldLst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DA2-451B-44F6-9EB3-1246EA85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C2C-7820-4B4A-8C70-2F016386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2B3-E17E-4E90-94DD-F97C38C5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BA8-BC04-485A-BCDF-44845C96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018F-5107-4872-8B59-FD99C447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4FC-252C-4A97-BCB5-D450F826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A701-E8C7-4A95-B39E-6288CD04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E3C-C333-48C2-A13F-67A51827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A64A-922A-4A7D-959B-6FA5A107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1A7-1753-4A35-821F-F444D6E9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E93-575B-4878-A711-B78D897A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092-D5FB-49A9-8915-C9C63E7C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D4F4-564A-422D-89FA-8E52567B9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5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6.wm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7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8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30.wmf"/><Relationship Id="rId2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2.wmf"/><Relationship Id="rId22" Type="http://schemas.openxmlformats.org/officeDocument/2006/relationships/image" Target="../media/image22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3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4.wmf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53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028240" y="1482840"/>
            <a:ext cx="51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GUSTAR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440" y="3564000"/>
            <a:ext cx="7615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gust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to be pleasing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, the equivalent is “to lik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85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95720" y="19350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ke coffe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1"/>
          <a:stretch/>
        </p:blipFill>
        <p:spPr>
          <a:xfrm>
            <a:off x="7162920" y="2819520"/>
            <a:ext cx="1592280" cy="2076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637720" y="5842080"/>
            <a:ext cx="39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offee is pleasing to m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01520" y="354816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l caf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8880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2120" y="354816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3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14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03200" y="1935000"/>
            <a:ext cx="29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like ca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25480" y="584208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a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28800" y="354816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os co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454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6040" y="3548160"/>
            <a:ext cx="6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1"/>
          <a:stretch/>
        </p:blipFill>
        <p:spPr>
          <a:xfrm>
            <a:off x="6629400" y="3200400"/>
            <a:ext cx="223992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21760" y="1935000"/>
            <a:ext cx="51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es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danc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0480" y="5842080"/>
            <a:ext cx="49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dance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hi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02960" y="3548160"/>
            <a:ext cx="137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1284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53040" y="3548160"/>
            <a:ext cx="11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1"/>
          <a:stretch/>
        </p:blipFill>
        <p:spPr>
          <a:xfrm>
            <a:off x="457200" y="2819520"/>
            <a:ext cx="220968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72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50080" y="1935000"/>
            <a:ext cx="44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like our teache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11520" y="584208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ur teache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please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u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72200" y="3352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uestros profe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076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99560" y="3548160"/>
            <a:ext cx="9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1"/>
          <a:stretch/>
        </p:blipFill>
        <p:spPr>
          <a:xfrm>
            <a:off x="304920" y="2819520"/>
            <a:ext cx="2587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90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01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040" y="1935000"/>
            <a:ext cx="82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(guys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go to the movi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14040" y="584208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go to the movies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you (guys)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3548160"/>
            <a:ext cx="18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ir al 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9816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6160" y="354816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1"/>
          <a:stretch/>
        </p:blipFill>
        <p:spPr>
          <a:xfrm>
            <a:off x="6400800" y="3048120"/>
            <a:ext cx="229392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30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40440" y="1935000"/>
            <a:ext cx="61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like history and spanish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09040" y="584208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istory and Spanish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72200" y="3352680"/>
            <a:ext cx="259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a historia y el españ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8360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10000" y="354816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1"/>
          <a:stretch/>
        </p:blipFill>
        <p:spPr>
          <a:xfrm>
            <a:off x="457200" y="2971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59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9" name=""/>
          <p:cNvSpPr/>
          <p:nvPr/>
        </p:nvSpPr>
        <p:spPr>
          <a:xfrm>
            <a:off x="990720" y="457200"/>
            <a:ext cx="70866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Cómo se dice en español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08800" y="1569960"/>
            <a:ext cx="5162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ike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na likes to watch tele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n’t like to do 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los and Miguel like c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guys like to look at pho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like to go shopping,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42760" y="19461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Me gusta estud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68040" y="2743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Elena) le gusta ver la telev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35880" y="34434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No nos gusta hacer la t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29920" y="419112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Carlos y a Miguel) les gustan los co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27480" y="49528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¿Os gusta mirar fo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06560" y="56386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Te gusta ir de compras, ¿ver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77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852840" y="144792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5160" y="3564000"/>
            <a:ext cx="70416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I like  Spanis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To me, Span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s pleas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1"/>
          <a:stretch/>
        </p:blipFill>
        <p:spPr>
          <a:xfrm>
            <a:off x="6095880" y="762120"/>
            <a:ext cx="251316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02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2614320" y="822240"/>
            <a:ext cx="39312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omic Sans MS"/>
              </a:rPr>
              <a:t>I like the beach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2240" y="2712960"/>
            <a:ext cx="30639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I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ik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65640" y="2733840"/>
            <a:ext cx="3292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spañ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pleas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indirec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1"/>
          <a:stretch/>
        </p:blipFill>
        <p:spPr>
          <a:xfrm>
            <a:off x="457200" y="609480"/>
            <a:ext cx="1407960" cy="1430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2"/>
          <a:stretch/>
        </p:blipFill>
        <p:spPr>
          <a:xfrm>
            <a:off x="7202520" y="609480"/>
            <a:ext cx="1407960" cy="143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29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789840" y="380880"/>
            <a:ext cx="36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Español…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5960" y="1219320"/>
            <a:ext cx="66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 order is actually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“backwards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8080" y="1981080"/>
            <a:ext cx="76039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object comes fir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ly the subject of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a pla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it negative by adding  “no” at the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1"/>
          <a:stretch/>
        </p:blipFill>
        <p:spPr>
          <a:xfrm>
            <a:off x="3657600" y="5029200"/>
            <a:ext cx="1835280" cy="130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55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1217880" y="762120"/>
            <a:ext cx="67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doing the “liking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33160" y="2529000"/>
            <a:ext cx="44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rect Object Pro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85120" y="3530520"/>
            <a:ext cx="2935800" cy="2531160"/>
            <a:chOff x="2985120" y="3530520"/>
            <a:chExt cx="2935800" cy="2531160"/>
          </a:xfrm>
        </p:grpSpPr>
        <p:sp>
          <p:nvSpPr>
            <p:cNvPr id="168" name=""/>
            <p:cNvSpPr/>
            <p:nvPr/>
          </p:nvSpPr>
          <p:spPr>
            <a:xfrm>
              <a:off x="2985120" y="3530520"/>
              <a:ext cx="7401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0120" y="3530520"/>
              <a:ext cx="8208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n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82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"/>
          <p:cNvSpPr/>
          <p:nvPr/>
        </p:nvSpPr>
        <p:spPr>
          <a:xfrm>
            <a:off x="914400" y="1066680"/>
            <a:ext cx="748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ingular nouns 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infin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3048120"/>
            <a:ext cx="74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n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plural noun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1"/>
          <a:stretch/>
        </p:blipFill>
        <p:spPr>
          <a:xfrm>
            <a:off x="3124080" y="4495680"/>
            <a:ext cx="289584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4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07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53604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87040" y="205740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 gusta nadar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02520" y="1582560"/>
            <a:ext cx="312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0400" y="476892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s gusta la playa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28800" y="4494240"/>
            <a:ext cx="347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74320" y="3200400"/>
            <a:ext cx="38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Te gusta nadar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35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/>
          <p:cNvSpPr/>
          <p:nvPr/>
        </p:nvSpPr>
        <p:spPr>
          <a:xfrm>
            <a:off x="166932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9920" y="1600200"/>
            <a:ext cx="413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tu herm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160020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N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v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 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 L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 y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C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mis ami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60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60120" y="1181160"/>
            <a:ext cx="4586760" cy="44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Me gusta… / M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Te gusta… / T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 gusta… / L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Nos gusta… / N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Os gusta… / 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s gusta… / Le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70560" y="1181160"/>
            <a:ext cx="3577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 / she / You like(s)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e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guys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y / 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11680" y="30924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2:15:13Z</dcterms:created>
  <dc:creator>Thomas and Jennifer Duggan</dc:creator>
  <dc:description/>
  <dc:language>en-US</dc:language>
  <cp:lastModifiedBy>Daly Dominguez</cp:lastModifiedBy>
  <dcterms:modified xsi:type="dcterms:W3CDTF">2006-03-18T22:23:42Z</dcterms:modified>
  <cp:revision>30</cp:revision>
  <dc:subject/>
  <dc:title>PowerPoint Presentation</dc:title>
</cp:coreProperties>
</file>